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A6F4C-7296-41F1-B9C9-31682540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61EDE-2C75-4EE5-879E-E8EF583E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08942-AE5F-4CE6-A729-6BAD1C5B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A2C0D-3EBF-4C99-83C4-697404BF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D0AB4-FA0B-4DD0-8417-D01F9939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3B7A2-A35C-4926-AEC5-BAE6E1C5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D9B22-669E-454C-816F-38443E2F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2D2EB-F94A-462A-AE84-5974FF60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E4F95-E1CF-4E1E-BBF9-9A5B2B27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DDA78-2F71-4BED-A9DB-21C8C944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0EBCB-78F4-4215-8389-7FB9CDAE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E8D41-9131-4DDF-8933-00CF24E8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DB5C-9DAC-4C2C-B831-814A6D09AA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1052280"/>
            <a:ext cx="8229600" cy="14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тегрисане ак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емске студије фармациј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0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линичка фармациј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84360" y="2852640"/>
            <a:ext cx="77724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omic Sans MS"/>
              </a:rPr>
              <a:t>Хемиотерапеутици. Клиничка фармација малигних 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 пред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547640" y="4976640"/>
            <a:ext cx="6513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Летњи семестар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67920" y="907560"/>
            <a:ext cx="8280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ривати нитрозоуре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8280" y="234936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ков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з ове групе (ломистин, кармустин, семустин, темозоламид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у веома липосолубилни и лако продиру у централни нервни систем где постижу и високе концентр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ло су хемијски нестабилни и лако се разграђују на хлоретил диазохидроксид и изоцијанат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а о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аболита јако реагују са молекулима у ћелији и инактивирају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бог брзе разградње, не могу се примењивати орал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ористе се за лечење примарних тумора моз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жељена дејства: плућна фиб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 лечење тумора бета ћелија панкреаса користи се још један припадник ове групе - стрептозоц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044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лкил сулфонати, етиленимини и триаз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57616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усулфан је представник алкил сулфоната који се користи за палијативно лечење хроничне мијелоидне леукемиј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иотеп је представник етиленимина индикован код мултифокалног карцинома беши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екарбазин је представник триазена најбољи за борбу против метастатског меланома, а користи се и за саркоме и Хоџкинову болес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1880" y="549360"/>
            <a:ext cx="82202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иметаболи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4760" y="1464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руктурни аналози природних молекула који учествују у синтези ДНК и РН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лују тако што се “такмиче” са природним молекулима око активних места на ензимима, или једноставно потпуно замењују природне молекуле у процесу синтез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јактивнији су у С фази, и практично не делују на туморске ћелије које су у фази мировањ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сте се за лечење малигних тумора који имају високу фракцију ћелија у фази раста (углавном хематолошка малигна обољењ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Њихове основне подгрупе: аналози фолата (метотрексат), аналози пурина (меркаптопурин, тиогванин, флударабин, кладрибин), аналози пиримидина (5-флуороурацил, капецитабин, цитарабин, гемцитабин) и аналози уреје (хидроксиуреј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тиметабол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5280" y="1616040"/>
          <a:ext cx="8424720" cy="4807080"/>
        </p:xfrm>
        <a:graphic>
          <a:graphicData uri="http://schemas.openxmlformats.org/drawingml/2006/table">
            <a:tbl>
              <a:tblPr/>
              <a:tblGrid>
                <a:gridCol w="4248000"/>
                <a:gridCol w="4176720"/>
              </a:tblGrid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c00000"/>
                          </a:solidFill>
                          <a:latin typeface="Candara"/>
                        </a:rPr>
                        <a:t>Л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c00000"/>
                          </a:solidFill>
                          <a:latin typeface="Candara"/>
                        </a:rPr>
                        <a:t>Индика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Метотрекс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кутна лимфобласна леукемија, Буркитов лимфом, Хориокарцин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огван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кутна мијелоидна леукем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Меркаптопу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кутна лимфобластна леукем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лудараб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Хронична лимфоцитна леукем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ентостатин/Кладриб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Леукемија власастих ћел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Гемцитаб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Карцином панкре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Цитараб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кутна мијелоидна леукем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Флуороурац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Карцином дојке и ГИТ карцино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Капецитаб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Карцином дојке и метастатски карцином колона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(ако није било реакције на класичну терапиј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4920" y="1485720"/>
            <a:ext cx="8373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Метотрекса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аналог фолне киселине који блокира дихидрофолат-редуктазу, смањује синтезу тетрахидрофолне киселине и омета функционисање ензима чији је кофактор метил-тетрахидрофолна киселина. Најважнији ензим из ове групе је тимидилат-синтетаза, чија блокада онемогућава стварање тимидилата, једног од 4 нуклеотида неопходних за синтезу ДНК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води до анемије, леукопеније и тромбоцитопен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зотиопри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као прекурсор меркаптопурина, омета нормалну синтезу ДНК.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ркаптопурин се, као лажни нуклеотид, уграђује у ДНК ћелија које се брзо деле тако да при поновној репликацији долази до грешака и смрти ћелиј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Меркаптопури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такође оштећује крвне лозе, доводи до анемије, леукопеније и тромбоцитопеније, а може оштетити и јетр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1880" y="692280"/>
            <a:ext cx="82202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итуморски антибиот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353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риродни прозводи микроорганизам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нтибиотици се интерпонирају (интеркалација) између две суседне базе ДНК (посебно између гуанина и цитозина и гуанина и тимина) што спречава даљу нормалну репликацију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Инхибирају ДНК топоизомеразе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Најчешће коришћени: доксорубицин, даунорубицин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идарубицин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блеомицин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митомицин, дактиномицин и пликамицин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Токсичност услед стварања велике количине слободних радикала: доксорубицин и даунорубицин оштећују ћелије срчаног мишића, а блеомицин доводи до фиброзе плућ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титуморски антибиот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360" y="1773360"/>
          <a:ext cx="8229600" cy="4032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Л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ндика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оксорубиц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кутне леукеми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унорубиц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Широк спектар деловањ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Блеомиц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Узнапредовали карцином тести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Митомици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алијативна терапија карцинома желуца, панкреаса и кол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актиномиц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илмсов тумор, Јуингов сарком, рабдомиосарком код дец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28760" y="1719000"/>
            <a:ext cx="828648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кофенолат мофет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тотоксични имуносупресив који инхибира синтезу гуаноз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кован за спречавање одбацивања трансплантата бубрега и срца у првих 6 месеци након операциј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често заједно са циклоспорином и кортикостероидим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води до оштећења костне сржи и повећава учесталост карцинома коже и лимфног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le 1"/>
          <p:cNvSpPr/>
          <p:nvPr/>
        </p:nvSpPr>
        <p:spPr>
          <a:xfrm>
            <a:off x="457200" y="620640"/>
            <a:ext cx="8218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Цитостатиц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1880" y="692280"/>
            <a:ext cx="8220240" cy="12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ибиот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57120" y="1454040"/>
            <a:ext cx="84297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клоспор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ептидни антибиотик, блокира диференцијациј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-лимфоцита у раним фазама успостављања имуног одговор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езује се за протеин цитоплазме, цитофилин Ц; тај комплекс инхибира ензим калцинеурин фосфатазу (од значаја у домену ослобађања интерлеукина 2, 3 и 4, интерферона алфа и фактора некрозе тумора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ндикован за спречавање одбацивања трансплантата, али се користи и код реуматоидног артритиса..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през: нефротоксично дејство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контролисати ниво креатинина у серуму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зазива хипергликемију, хиперлипидемију, хирзутизам, неу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патију и благ хепатитис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ролимус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еханизам дејства и нежељена дејства су му слична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ао код циклоспор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5920" y="1576440"/>
            <a:ext cx="840096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ролиму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но сличан такролиму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хибира цитоплазматску серин-треонин киназу и тиме спречава пролиферацију Т-лимфоци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комбинацији са циклоспорином индикован за превенцију акутног одбацивања трансплантираног бубре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ељена дејства: цитопенија, хиперлипидемија, отежано зарастање рана, тромбоз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патичне артер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5560" y="764640"/>
            <a:ext cx="82184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ибиот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87120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отни циклус и нормалне и малигне ће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95372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ти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фаз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животног циклу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ва фаза (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ћелија се припрема за репликацију своје ДНК тако што синтетише све потребне ензиме за тај проце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руг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С фаз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фаз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којој с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авља репликација ДН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ћ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фаза, у којој се синтетишу сви потребни ензими и остали молекули за митозу, тј. дефинитивну деобу на две ћелије. У митози долази до кондензације хромозома, њиховог раздвајања и дефинитивне деобе ћелије-мајке на две ћелије-ћер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ке ћелије нормално непрекидно изнова улазе у овај циклус деобе, док друге улазе у фазу мировања, која се означава са 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713880"/>
            <a:ext cx="821844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ромонаб ЦД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719360"/>
            <a:ext cx="83296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ноклонско антитело добијено из крви мишева, које се везује за ЦД3 антиген на Т лимфоцитима, услед ћега они губе своју функциј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кован за спречавање одбацивања трансплантата бубрега, јетре или срца, као и за смањење броја Т лимфоцита у костној сржи донатора (пре трансплантациј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ељена дејства: едем плућа, повишена температура, повраћање и а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лактичка реак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4240" y="74628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ажњ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оксорубицин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Обзиром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а ствара слободне радикале, испољава специфичну кардиотоксичнос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оже довести до хиперпигментације лежишта нокта и прегиба кож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Боји урин у црве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Блеомицин: озбиљно нежељено дејство је фиброза плућа, а може се јавити и задебљање коже и хиперпигментациј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1520" y="105264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тостатици биљног пор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2445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оји више врста; сви се одликују значајном токсичношћ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калоиди из биљк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nca rosea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винкристин, винбластин и винорелбин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елују тако што се везују за протеине који изграђују микротубуле, и спречавају њихову уградњу у митотско вретен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речавајући митозу малигних ћелија и раст тум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нкристин је индикован код акутне лимфобласне леукемије, Хоџкинових и не-Хоџкинових лимфома и солидних тумора код деце, а може изазвати појаву неуропат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нбластин делује на карцином тести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норелбин делује на узнапредовали немикроцелуларни карцином плућ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итостатици биљног поре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46040" y="2060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топозид и тенипозид су 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сини из биљк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dophyllum peltat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хибирају ензим топоизомераз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што спречава синтезу ДНК, а тиме и деобу малигне ћел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топозид је индикован код тумора герминативних ћелија тестиса и оваријума, лимфомa, микроцелулар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карцино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плућа и акут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леукемиј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, а тенипозид код акутних лимфобласних леукем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клитаксел и доцетаксел су полусинтетски деривати природних супстанци из биљк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xus bacc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оји такође ометају функционисање митотског вретен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укују апоптозу код малигних ћелија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а лека су активна против карцинома дојке, плућа, оваријума и главе и врата, али показују и специфичну токсичност у смислу настанка периферне неуропат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83520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Хорм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205416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кови који се везују за рецепторе хормона могу утицати на туморе чији раст зависи од дејства хорм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моксифен је блокатор рецептора за естроген који може спречити раст карцинома дојке чије ћелије поседују такве рецепторе. Добро се подноси; изазива валунг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ко је ароматаза ензим који у масном ткиву претвара андрогене пореклом из надбубрежне жлезде у естрогене, инхибитори ароматазе (анастрозол, летрозол, ексеместан) могу спечити или успорити раст карцинома дојке код жена у менопаузи ако ћелије карцинома поседују рецепторе за естрогене. Нежељене реакције: остеопороза, пораст липида у плазми, укоченост зглобо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1880" y="899640"/>
            <a:ext cx="8220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Хорм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естроген 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вестрант изазива нисходну регулацију естрогених рецептора; примењује се код метастатског карцинома дојке чије ћелије имају рецепторе за естрог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лутамид блокира рецепторе за андрогене хормоне и користи се лечење карцинома прост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себно је користан у комбинацији са леупролидом, пептидним аналогом гонадотропин-рилизинг хормона из хипоталамуса који се иначе користи за палијативно лечење карцинома проста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5680" y="69228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стали цитостат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6040" y="1988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Хидроксиуре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нхибира претварање рибонуклеотида у дезоксирибонуклеотиде и тако спечава синтезу ДН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исти се за лечење хроничне мијелоидне леукем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рокарбазин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спонтано оксидише и ствара слободне радикале који оштећују ДНК, а користи се у комбинованој терапији Хоџкиновог и не-Хоџкиновог лимфома као и за микроцелуларни карцином плу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Хидроксиметилмелам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нхибира синтезу ДНК и РНК у ћелијама аденокарцинома овариј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836280"/>
            <a:ext cx="82184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стали цитостат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6600" y="2204640"/>
            <a:ext cx="82789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исплатин и карбоплати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 користе  углавном за терапију солидних тумора. Оба лека делују истим механизмом, само је карбоплатин растворљивији у води, што му даје другачији фармакокинетски профил и другачија нежељена деј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сплатин је посебно активан против карцинома тестиса и јајника, а обзиром да се елиминише путем бубрега јако споро, може оштетити тубуле бубрега. Такође, може довести до губитка слуха и периферне неуропат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907560"/>
            <a:ext cx="82184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итостатици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као саставни део имуносупреси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33440" y="227664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ков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метају синтезу нуклеинских киселин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зб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муни одговор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зиром 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ком имуног одговора долази до експлозивне деобе лимфоци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разлику од њихове примене у лечењу малигних тумора, где се дају у великим дозама интермитентно, са паузама, као имуносупресиви примењују се у малим дозама, континуира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јчешће се користе циклофосфамид, азотиоприн и метотрекс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кофенолат мофетил је цитотоксични имуносупресив који инхибира синтезу гуанозин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оји се 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исти за спречавање одбацивања трансплантата бубрега у првих 6 месеци после операције. Доводи до оштећења костне сржи и повећава учесталост карцинома коже и лимфног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7520" y="69228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нтаминациј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а цитостатиц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 у виду физи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ко-хемијска, фармаколо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ка и токсиколо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ка својства ове групе хемијских супстанциј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до опасности од контаминације нај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шћ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е долази приликом производње, 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увања и транспорта или приликом припреме за примену у медицинској пракс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Из фазе мировања само неке ћелије се могу накнадно "пробудити" и започети поново деобу</a:t>
            </a: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матичн</a:t>
            </a:r>
            <a:r>
              <a:rPr b="1" i="1" lang="sr-CS" sz="27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ћелиј</a:t>
            </a: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стем </a:t>
            </a: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ћелије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Код тумора су присутне све три врсте ћелија: дефинитивно диференциране, ћелије које се непрекидно деле и матичне ћелиј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2184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нтаминациј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а цитостатиц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46040" y="1628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Професионална угро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еност овим лековима мо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е бити разли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та и углавном зависи од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Хемијских својстава цитостати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сетљивости појединца на токсичне ефекте леков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Трајања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есталости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контакта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њима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на контакт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1880" y="800280"/>
            <a:ext cx="82202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ипрем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итост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Како би се не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ељени ефекти свели на најмању могу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у меру, припрему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чување, сакупљање и отклањање цитотоксичних препарата 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треба да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вр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специјално обучена и квалификована лица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у болни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ким апотекама или у специјално одре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еним просторијама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за ту намену уз поштовање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оцедур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за руковање цитотоксичним препаратим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45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Препоруке за пр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ипрем</a:t>
            </a: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цитостати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66824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Радити само на та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но одре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еном месту уз употребу дигестора са вертикалним одводом ваздух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Потребно је носити заштитну маску, рукавице, огртач дугих рукава, а све је потребно заменити ако се контамини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орају се носити покривачи за косу и покривачи за обућ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4880" y="83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Препоруке за пр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ипрем</a:t>
            </a: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цитостати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6040" y="1668600"/>
            <a:ext cx="82296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уке се прво добро оперу, а онда навлаче двоструке рукавиц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ви пар рукавица се завлачи испод манжетне мантила, а други пар се навлачи преко манжетне манти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укавице тада треба опрати, да би се ослободиле зрнаца тал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укавице треба мењати сваких 20 до 30 мину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39560" y="9475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Препоруке за пр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ипрем</a:t>
            </a: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цитостати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Ако дође до оштећења, рукавице се одмах скидај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и скидању, рукавице се преврћ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прати руке после скидања рукавиц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5680" y="69228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Препоруке за пр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ипрем</a:t>
            </a: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цитостати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6040" y="159696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Приликом растварања цитостатика раствара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ч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треба додавати тако да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полако те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е низ зид посуд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Стерилну компресу или вату омотати око игле и врха бочице за време извлачења из бочице; ставити компресу на иглу или врх шприца приликом избацивања ваздуха из шприц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Обрисати шприц или инфузијску боцу са спољашње стра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Код ломљења врха ампуле омотати компресу око предвиђеног места лом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719360"/>
            <a:ext cx="83296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трекс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ог фолне киселине који блокира дихидрофолат-редуктазу, смањује синтезу тетрахидрофолне киселине и омета функционисање ензима чији је кофактор метил-тетрахидрофолна кисел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кадом ензима тимидилат-синтетазе онемогућава стварање тимидилата, једног од 4 нуклеотида неопходних за синтезу ДН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води до анемије, леукопеније и тромбо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пен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4520" y="980640"/>
            <a:ext cx="821844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итостатиц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218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Стални монитор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4304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да се примењују цитостатици као имуносупресиви, неопходна је једнонедељна контрола крвне слик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колико дође до наглог пада броја леукоцита или тромбоцита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обуставити терапиј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2184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жељена дејства цитост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бог свог механизма деловања, цитостатици поседују значајна нежељена дејства на сва ткива у људском организму која се брзо де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и заправо делују на та ткива као и на туморе: доводе до смрти једног броја ћелија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едују и извесна специфична нежељена деј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53880" y="839880"/>
            <a:ext cx="8218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жељена дејства цитост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3520" y="2076480"/>
            <a:ext cx="842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учнина и повраћ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огу бити антиципаторног карактера (јављају се пре пријема лека), акутног карактера (настају у року од 24 часа од пријема терапије), или одложени (јављају после 24 часа од пријема терапиј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да се могу јавити код примене свих цитостатика, најчешћ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јављају код примене цисплатина, дакарбазина, циклофосфамида, метотрексата, доксорубицина и митоксантро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 спречавање мучнине и повраћања код примене цитостатика користи се пре свега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домперид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ли неки од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фенотиаз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најкасније један сат пре почетка примене цитостатика, и наставља се са његовом применом до 24 часа од примене хемиотерапије. Ако је повраћање антиципаторног типа, индикована је примена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лоразепа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а ако је повраћање одложеног типа, треба додати уз домперидон и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дексаметаз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лучају примене цитостстика са великим еметогеним ефектом, дају се </a:t>
            </a:r>
            <a:r>
              <a:rPr b="0" lang="sr-CS" sz="1600" spc="-1" strike="noStrike">
                <a:solidFill>
                  <a:srgbClr val="ff0000"/>
                </a:solidFill>
                <a:latin typeface="Arial"/>
              </a:rPr>
              <a:t>блокатори 5ХТ</a:t>
            </a:r>
            <a:r>
              <a:rPr b="0" lang="sr-CS" sz="1600" spc="-1" strike="noStrike" baseline="-25000">
                <a:solidFill>
                  <a:srgbClr val="ff0000"/>
                </a:solidFill>
                <a:latin typeface="Arial"/>
              </a:rPr>
              <a:t>3 </a:t>
            </a:r>
            <a:r>
              <a:rPr b="0" lang="sr-CS" sz="1600" spc="-1" strike="noStrike">
                <a:solidFill>
                  <a:srgbClr val="ff0000"/>
                </a:solidFill>
                <a:latin typeface="Arial"/>
              </a:rPr>
              <a:t>рецептор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: ондасетрон, гранисетрон, доласетрон и палоносетр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д најеметогенијих лекова примењује се комбинација блокатаора 5ХТ</a:t>
            </a:r>
            <a:r>
              <a:rPr b="0" lang="sr-CS" sz="16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цептора, дексаметазона и блокатора неурокинин1 рецептора (апрепитан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тостат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4400" y="1628640"/>
            <a:ext cx="83739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ечење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мал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иг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них обољења цитостатицима, уз хирур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ку терапију и радиотерапију, представља један од основних на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на ле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ења ових обољењ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Основна карактеристика ових лекова је </a:t>
            </a:r>
            <a:r>
              <a:rPr b="1" lang="sr-Latn-CS" sz="2500" spc="-1" strike="noStrike">
                <a:solidFill>
                  <a:srgbClr val="000000"/>
                </a:solidFill>
                <a:latin typeface="Arial"/>
              </a:rPr>
              <a:t>НЕСЕЛЕКТИВНОСТ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, сходно чему ови лекови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своје дејство испољавају и на здрав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им ћ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елиј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ама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организма 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то их сврстава у групу лекова са јаким дејство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5680" y="620280"/>
            <a:ext cx="82184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жељена дејства цитост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6040" y="16236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упресија костне срж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жељено дејство већине цитостатика, осим винкристина и блеомиц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емија се испољава тек после неколико циклуса хемиотерапије, због дугог живота еритроцита у периферној крви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супрот томе, леукопенија достиже максимум од 7 до 10 дана после примене цитостатика, и потребно је затим око 20 дана да дође до опоравка беле лоз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о број леукоцита падне испод 1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Л и појави се повишена температура код пацијента, онда је највероватније дошло до инфекције, па се саветује примена антибиотика са широким спектром деловањ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 тежих неутропенија опоравак се може убрзати применом фактора стимулације гранулоцитно-макрофагних колонија (ГМ-ЦСФ) или фактора стимулације гранулоцитних колонија (Г-ЦСФ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5440" y="105264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жељена дејства цитост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19040" y="2565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лопе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 редовно јавља код цитостатске терапије, али је реверзибилна и не захтева фармаколошки третм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пала слузокоже усне дупље са појавом улцер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 најчешће јавља код примене метотрексата, флуороурацила и антрациклина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ож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речити добром хигијеном усне дупље и сисањем комадића леда у току инфузије флуороурац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67920" y="764640"/>
            <a:ext cx="82184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жељена дејства цитост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2680" y="1771560"/>
            <a:ext cx="83628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иперурик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1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ављ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о компликација лечења леукемија и лимфома, због великог стварања мокраћне кисел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1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же спречити адекватном хидрацијом пацијента и применом алопуринол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хибира ензим ксантин-оксидазу и тиме спречава стварање мокраћне киселине, почевши један дан пре примене цитостат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1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тежим случајевима, где је оптерећење малигним ћелијама веома велико, боље је применити расбуриказ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ој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краћну киселину оксидише у растворљивија једиње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ај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дном дневно, у виду интравенске инфузије, током 6-7 дана. Нежељена дејства расбуриказе: алергијске реакције, повишена температура, мучнина и повраћање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е сме се користити код особа са дефицитом глукозо-6-фосфат дехидрогеназе јер може преципитирати хемолитичку анем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1520" y="620280"/>
            <a:ext cx="82184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жељена дејства цитост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960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27880" indent="-22788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Кардиотоксичност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подразумева директно оштећење ћелија миокарда цитостатицима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себно 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стичу антрациклини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доксорубицин и даунорубицин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-23832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Токсични ефекти могу бити акутни и хроничн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-23832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јављају 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сле болус ињекција антрациклина, и манифестују се као суправентрикуларне тахикардије, смањење Т-таласа у ЕКГ-у или појава коморских екстрасистол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-23832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онични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јављају 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се након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латентног периода од неколико месеци и манифестују се као кардиомиопатија са инсуфицијенцијом срц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-23832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ардиотоксичност препарата антрациклина се може смањити на два начин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-23832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гу 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рипремити као липозомални препарати, тј. молекули лека су обавијени липидном мембраном која спречава контакт са ткивима која нису циљ терапиј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-23832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е и 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током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римене антрациклина пацијенту дати лек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дексразоксан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дериват етилендиамин-тетрасирћетне киселине, ЕДТА) у односу 10:1 са доксорубицином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спречава оксидативно и директно токсично деловање цитостатика на митохондриј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2184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жељена дејства цитост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1526760"/>
            <a:ext cx="842472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Токсично деловање на уринарни трак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је карактеристика цисплатина, циклофосфамида и ифосфамид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Цисплатин оштећује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убуле бубрега, док циклофосфамид и ифосфамид оштећују како тубуле бубрега, тако и епител мокраћне бешике, изазивајући хеморагични циститис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Хеморагички циститис је последица накупљања у мокраћној бешици акролеина, метаболита циклофосфамида и ифосфамид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клофосфамид и ифосфамид доводе до хипонатремије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оксични ефекат цисплатина се може умањити добром хидрацијом болесника уз примену манитола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рисна је истовремена примена тиолног естра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амифостин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који се везује за слободне радикале и неутралише их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оксични ефекат циклофосфамида и ифосфамида на мокраћну бешику се може умањити истовременом применом месне, лека који се везује специфично за акролеин и неутралише г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69228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жељена дејства цитост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52712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ератогено деловање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 ембрион и фетус; не смеју се користити у току трудноће, посебно у првом тромесечј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Оштећење јетр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же се јавити код бројних цитостатика, обзиром да се они метаболишу до токсичних метаболита, или су директно токсични за јетрене ћелиј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ично се токсични ефекат манифестује оштећењем хепатоцита (са последичним порастом трансаминаза у серуму), али код примене високих доза цитостатика може доћи до оштећења и облитерације ситних грана v. portae, што резултује портном хипертензиј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јизраженије хепатотоксично деловање имају меркаптопурин, циклофосфамид, аспарагиназа, пликамицин,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дериват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итрозоуреје, метотрексат, бусулфан, хидроксиуре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1880" y="620280"/>
            <a:ext cx="82202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жељена дејства цитост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штећење плућ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леомиц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леомицин: концентрише се у плућном ткиву; делује директно токсично на пнеумоците типа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и ендотелне ћелије плућних капилара; последично доводи до развија фиброзе плућ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штећење коже и њених аднек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луороурацил, доксорубицин и метотрексат могу изазвати тзв. синдром шака-стопало, који се манифестује сувим, црвеним длановима и табанима који постепено постају хиперпигментован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иперпигментације и на другим деловима коже могу изазвати бусулфан, блеомицин, метотрексат, тиотепа и флуороурацил. Таксани и блеомицин могу довести до отпадања ноктиј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836640"/>
            <a:ext cx="821844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линички значајне интерак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719360"/>
            <a:ext cx="83296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зиром да се имуносупресиви користе готово увек у комбинацијама, постоје клинички значајне интеракције између ових л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 би се непожељне последице избегле, неопходно је да се ове интеракције познају, и да се периодично прати серумска концентрација имуносупресива, уз од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арајуће корекције до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28400" y="1642680"/>
            <a:ext cx="83581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клоспорин (за разлику од такролимуса) инхибира ентерохепа-тичку рециркулацију микофенолне киселине (која настаје од пролека микофенолат мофетила) због инхибиције MRP2 транспортера у жучним каналићима и цревном епител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тат: смањење серумског нивоа микофенолне киселине за 5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порук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 би се очувао имуносупресивни ефекат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стручити дневну дозу са једног на два грама микофенолат мофет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акролимус, који спада у групу калцинеуринских инхибитора као и циклоспорин, не утиче на серумски ниво микофенолне кисел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1880" y="836640"/>
            <a:ext cx="822024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линички значајне интерак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28760" y="1604520"/>
            <a:ext cx="8286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клоспорин и сиролимус се метаболишу преко цитохром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А4 у јет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времена примена циклоспорина и сиролимуса: пораст серумских концентрација оба лека; испољавање токсичних ефеката циклоспорина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бре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бог метаболизма прек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А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иклоспорин ступа у интеракције са осталим лековим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нхибитори активности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YP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А4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(макролиди, имидазоли, хлорамфеникол, сок од грефрута и инхибитори протеазе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оводе до пораста концентрације циклоспорина у серум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ндуктори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YP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А4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(карбамазепин, фенобарбитал и рифампицин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оводе до смањења серумске концентрације циклоспор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400" y="692280"/>
            <a:ext cx="821844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линички значајне интерак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620640"/>
            <a:ext cx="8218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итостатиц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85840" y="1499760"/>
            <a:ext cx="8424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метају синтезу нуклеинских 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о имуносупресиви, користе се у малим дозама, континуира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клофосфамид своју активну групу (хлор-етил-амин) везује за нуклеинске базе у ДНК и доводи до грешака приликом репликације. Нежељена дејства: неутроп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ја, тромбоцитопенија, алопеција, хеморагични цистити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зати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, као прекурсор меркаптопурина, омета нормалну синтез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НК. Меркаптопурин се, као лажни нуклеотид, уграђује у ДНК ћелија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поновној репликацији долази до греш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ркаптопурин оштећује крвне лозе, доводи до анемије, леукопеније и тромбоцитопеније, а може оштетити и јет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зати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 заједно са кортикостероидима, погодан у лечењу реуматоидног артрити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жељена дејства: супресија костне сржи, ГИТ тегобе, повећана склоност инфекциј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нцероге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28400" y="1714320"/>
            <a:ext cx="83581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бог изразитог нефротоксичног нежељеног дејства циклоспорина, истовремена примена са другим нефротоксичним лековим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аминогликозиди, ванкомицин, амфотерицин Б, НСАИЛ...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ћава ризик од оштећењ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вог орг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станак примене кортикостероида код пацијената који су више месеци истовремено примали кортикостероиде и такролимус доводи до пораста серумских концентрација такролимуса за 10 до 35%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вероватно услед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станка стимулаторног дејства кортикостероида на активнос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YP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3А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400" y="836640"/>
            <a:ext cx="821844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линички значајне интерак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1360" y="1268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линичка фармација хемиотерапеу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8680" y="2565000"/>
            <a:ext cx="83534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рименом цитостатика мора се постићи уништење готово свих малигних ћелиј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Цитостатици се користе обично у комбинацијама, и то пулсно (дају се у краћим временским периодима високе дозе, а затим се дозвољава пауза од око 3-4 недеље, како би се пацијент опоравио од нежељених дејстава)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0880" y="2187720"/>
            <a:ext cx="8352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бинације цитостатика: увек се користе цитостатици са различитим механизмом деловања и са различитом врстом нежељених дејстава, како би се постигао највећи могући ефекат са што мање токсичног деловања на организам болес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жно је приликом употребе цитостатика користити адекватне дозе: примена мањих доза од препоручених смањује изразито ефекат лека на тумор, док примена већих доза доводи до неприхватљивих токсичних ефек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441360" y="126828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фармација хемиотерапеу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Хвала на пажњ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7920" y="54936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тостат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тостатици се могу поделити на две групе према томе да ли је њихово деловање везано само за одређену фазу ћелијског циклуса или 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клус-неспецифични цитостатици (нпр. алкилирајући агенси) делују у свим фазама ћелијског цикл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клус- или фазно-специфични лекови делују само у једној фази ћелијског циклуса (нпр. винкристин и винбласт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амо у митоз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 циклус-неспецифичних лекова функција доза-одговор је линеарна, тј. са порастом дозе расте и број убијених малигних ћелиј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 циклус- тј. фазно- специфичних лекова ова функција има плато, тј. стални пораст дозе после извесног времена неће бити праћен порастом броја убијених ћел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96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ела цитостатика према механизму деловања и хемијској грађ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1360" y="256536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лкилирајући агенс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нтиметаболи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нтитуморски антибиотиц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итостатици биљног порек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Хормо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тали цитостатиц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лкилирајући аген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353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У свом молекулу поседују алкил-радикале који се лако везују за азотове атоме у пуринским и пиримидинским базама нуклеинских киселина,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јчешће се везују за азот на позицији 7 у пуринском нуклеусу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риликом репликације ДНК долази до грешака, прекида ДНК и смрти ћелије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лкилирајући агенси делују на ћелије у свим фазама њиховог животног циклус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Осим за лечење леукемија и лимфома, користе се у терапији солидних тумора код којих је велики део ћелија у фази мировања (Г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Најважније групе алкилирајућих агенаса: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азотни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ликавци, деривати нитрозоуреј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алкил сулфонати, етиленимини и триазени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8800" y="980640"/>
            <a:ext cx="82202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Азотни 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икав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8800" y="1954080"/>
            <a:ext cx="8353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јзначајнији представници: мехлоретамин, циклофосфамид, ифосфамид и хлорамбуцил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лфал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и су настали из бојних отрова пликаваца, па су задржали својство да делују локално иритант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азивају токсичн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екте карактеристичне за паренхимске отрове, тј. могу довести до оштећења костне сржи, локалне некрозе, фиброзе плућа и хеморагијског циститиса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клофосфамид своју активну групу (хлор-етил-амин) везује за нуклеинске базе у ДНК и доводи до грешака приликом репликације. Нежељена дејства: неутропенија, тромбоцитопенија, алопеција, хеморагични цистити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Microsoft Office User</cp:lastModifiedBy>
  <dcterms:modified xsi:type="dcterms:W3CDTF">2023-02-06T13:18:05Z</dcterms:modified>
  <cp:revision>252</cp:revision>
  <dc:subject/>
  <dc:title>Slide 1</dc:title>
</cp:coreProperties>
</file>